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EB26-E4D6-44F9-BF23-045F9A6C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047-5673-456E-9AE7-1EE3B73E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742-9FC7-4315-A5E7-D3E1C5C4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FD7A-58F1-4472-9BCA-D3E5706E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DCD4-7CFC-429A-832C-D98AD4E1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07B-35E6-4AAC-B644-134CE93D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CA87-01A6-4BFF-A826-76AE0FC4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F01-1BCE-4903-908F-84FF947C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E63-DE9D-4DCD-B45A-B9A81661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DB9-9209-40D6-AB99-4891E819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FE83-AF41-4E1A-9CE5-EC03C548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BCF-42AA-4A1C-8B39-CBE59AB8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9CCB-DCDF-4D33-8F73-E18D6F9E9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48320" y="106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6200" y="609480"/>
            <a:ext cx="605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1332000"/>
            <a:ext cx="777240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881360"/>
            <a:ext cx="77724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22960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7724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77724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820800"/>
            <a:ext cx="777240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803160"/>
            <a:ext cx="777240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814320"/>
            <a:ext cx="77724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714240"/>
            <a:ext cx="77724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2392200"/>
            <a:ext cx="77724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2467080"/>
            <a:ext cx="77724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957320"/>
            <a:ext cx="77724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197000"/>
            <a:ext cx="434340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1927080"/>
            <a:ext cx="77724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335320"/>
            <a:ext cx="777240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1:32:00Z</dcterms:created>
  <dc:creator>PSD</dc:creator>
  <dc:description/>
  <dc:language>en-US</dc:language>
  <cp:lastModifiedBy>Parkland High School</cp:lastModifiedBy>
  <dcterms:modified xsi:type="dcterms:W3CDTF">2011-01-03T00:41:54Z</dcterms:modified>
  <cp:revision>4</cp:revision>
  <dc:subject/>
  <dc:title>4.6</dc:title>
</cp:coreProperties>
</file>